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E75-4039-4861-B8A9-B870B28B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A98-3D4E-4C71-BE10-68B880EB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05F-0F66-48FF-9495-BEAD9EF5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FF2-51B1-4A06-9D39-796680FF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ABC8-E27F-4BFC-BA99-82B2E0C8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C132-4477-49AB-8E09-259EDD2C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69D0-0913-42DF-8F23-DE822F1C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4279-360F-4D15-82F5-27B67214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A7F2-1476-46B4-9EF1-0953CCF6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F056-49FF-48B3-8285-C3BBBBE1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1664-1A5C-470A-9598-B0195C68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F78-E65E-41BA-8A01-EA71AF0A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910A-6AF5-4D18-9D44-35C54441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AFCA-AB40-47BA-963F-08C497B6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9F45-F7DB-408C-8306-AF1E9069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458C-0EBB-4EE7-81A7-626A690F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CC02-196E-4EE5-9090-A72FD4ED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F3B-9261-470D-A328-4658AA6E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E72-7558-41AB-844E-2DBF211D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067-DAB3-430C-ABCC-3845A280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019-2AB6-43F8-927C-3E69445D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A9A-9012-43E7-A68F-6334B116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C26-56C9-4948-B530-384F7D81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CC6-48C5-4DEE-B969-4D70EE84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5650-9EFB-4A46-9C10-7E8666BE784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F120-F73F-41E6-A7D4-FAA698A660D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eometry 4.2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ctober 200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base of a large hemispherical dome is a circle with diameter 80 m.  How far apart are two 20 m parallel support beams that form chords of the support bas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rove the follow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s equilateral and A, B, C are the midpoints of the sides.  Prove that               is an equilateral triang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71600" y="1828800"/>
                <a:ext cx="10666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Q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394160" y="2235240"/>
                <a:ext cx="9144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600200" y="3124080"/>
            <a:ext cx="2286000" cy="198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158920" y="4114800"/>
            <a:ext cx="1168560" cy="976320"/>
          </a:xfrm>
          <a:prstGeom prst="triangle">
            <a:avLst>
              <a:gd name="adj" fmla="val 51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7242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4800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04812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352680"/>
            <a:ext cx="31240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150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te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819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as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Slope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is a measure of the steepness of a lin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mula for slope of a lin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09680" y="4038480"/>
                <a:ext cx="38102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titude of a triangle: the perpendicular distance from the base of a figure to the opposite side or vertex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2373480" cy="1665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3633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4:24:17Z</dcterms:created>
  <dc:creator>HCPS</dc:creator>
  <dc:description/>
  <dc:language>en-US</dc:language>
  <cp:lastModifiedBy>nbdoe</cp:lastModifiedBy>
  <dcterms:modified xsi:type="dcterms:W3CDTF">2007-10-10T00:15:53Z</dcterms:modified>
  <cp:revision>22</cp:revision>
  <dc:subject/>
  <dc:title>Roots &amp; Zeros of Polynomials III</dc:title>
</cp:coreProperties>
</file>